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32EA27-FAF5-4C91-ACDD-971B615B5FA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FE76E25-4083-46E9-B504-039F7D1F8EA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B253EED-205C-4033-97AE-5B4F70F37DD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130CD40-4EB1-4406-B280-5AD3324D29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AA17A0E-759D-4988-9138-E1C3EDEFE61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26976A4-CEB2-41FD-934C-EB80C164E9A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CA7766E-3A61-40BA-A89D-2EDE0AD05B4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0B76AD-4C56-4F0D-9A69-DC27828F272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F59F9AA-142B-454F-A8C8-CFC1AD21A32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0E3CCB5-6875-42D2-8F9D-EB193EB88D1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82C668B-8FEF-4709-8299-CB8099F804B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76BD247-A48F-4B37-ACA3-6284D924E7F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68AD404-C278-4922-8AB3-597DC47341B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9F067E5-B59E-4CF2-B8D1-0FA53B9CEA6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6D7DA9B-D413-43E0-944D-777AAB5B25E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D6F6D5C-1674-4B86-BD43-754E278E496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ABCE20F-8E60-4A4C-8B3B-99C26A71A22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B17F064-E8FE-4738-B2E1-AE0DD07E3C8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B7457F7-40C1-402E-8CB6-884591EC0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E0D48B1-B216-4D40-82C7-5243F4D31EC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A62F-A394-4E3F-A137-ACFED99B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434E-A7F5-4846-8C7E-9772A1C3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C1D0-FDB0-4565-8DB3-666ABA27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AEEC-2A31-4EF3-A0FC-8446B9D3F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49F6-F7B3-4FD1-B7A5-8E45EE66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EA88-415C-4AEA-95F7-FC09D38A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A4C5-FA35-4C64-87C8-A4F308B2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51E7-920B-42DF-A8B8-5D84E8A7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626F-DB95-456F-927C-5C383091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64FD-7172-4CFE-8675-3E0A7704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292F-847E-4160-946F-3A08E448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F645-4F95-4EF4-B331-92A6E148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BD90-D971-4999-AAF5-26794BA7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D5A8-E7D1-4F3B-BF89-009DDEEC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50C2-ECD2-4D06-BE78-0CE0BBF2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79BF-8117-4F74-B63F-B1454B692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51B0-DB18-443E-BD67-A078AC9E3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7BC3-1BBF-4B4B-AD99-7A9D48B1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A04F-D406-49A2-890C-3DCE91C0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4461-E71E-444D-9841-3013A895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2D52-97DF-4980-9D92-08E947D7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6309-65A9-4B8B-A869-6AC88334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73C4-85DE-43B6-86F7-6CBF6EED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D106-768A-4285-8203-175E5BB1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4C18-841F-40E9-BBB2-B900FAFDBBD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9E1B-9C94-4950-92FA-CB08630D5C1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he Legislative Branch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18" name="Content Placeholder 7" descr="Screen shot 2012-10-11 at 1.46.55 PM.png"/>
          <p:cNvPicPr/>
          <p:nvPr/>
        </p:nvPicPr>
        <p:blipFill>
          <a:blip r:embed="rId1"/>
          <a:srcRect l="0" t="-23862" r="0" b="-23862"/>
          <a:stretch/>
        </p:blipFill>
        <p:spPr>
          <a:xfrm>
            <a:off x="457200" y="2174760"/>
            <a:ext cx="4040280" cy="39513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Content Placeholder 8" descr="Screen shot 2012-10-11 at 1.47.46 PM.png"/>
          <p:cNvPicPr/>
          <p:nvPr/>
        </p:nvPicPr>
        <p:blipFill>
          <a:blip r:embed="rId2"/>
          <a:srcRect l="0" t="-25501" r="0" b="-25501"/>
          <a:stretch/>
        </p:blipFill>
        <p:spPr>
          <a:xfrm>
            <a:off x="4645080" y="2174760"/>
            <a:ext cx="4041720" cy="39513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1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ional Sessio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Each Congress meets for </a:t>
            </a:r>
            <a:r>
              <a:rPr b="1" lang="en-US" sz="3200" spc="-1" strike="noStrike" u="sng">
                <a:solidFill>
                  <a:srgbClr val="cc0099"/>
                </a:solidFill>
                <a:uFillTx/>
                <a:latin typeface="Verdana"/>
              </a:rPr>
              <a:t>two year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gresses are divided in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wo session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ssion is in odd numbered years following elec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ssion is in even, election yea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gresses are numbered – the Congress elected in 2008 is the 1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gress and officially began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ession Tuesday, January 6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the number of the current Congres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14</a:t>
            </a:r>
            <a:r>
              <a:rPr b="0" lang="en-US" sz="4400" spc="-1" strike="noStrike" baseline="30000">
                <a:solidFill>
                  <a:srgbClr val="003366"/>
                </a:solidFill>
                <a:latin typeface="Verdana"/>
              </a:rPr>
              <a:t>th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Congres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Gender and Ethnicity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les: 427   House: 347; Senate: 8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males: 108   House: 88; Senate: 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rican/Americans: 4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: 46;  Senate: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panics: 3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: 34;  Senate: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ian: 1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: 13;  Senate: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14</a:t>
            </a:r>
            <a:r>
              <a:rPr b="0" lang="en-US" sz="4400" spc="-1" strike="noStrike" baseline="30000">
                <a:solidFill>
                  <a:srgbClr val="003366"/>
                </a:solidFill>
                <a:latin typeface="Verdana"/>
              </a:rPr>
              <a:t>th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Congres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verage Ag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use of Representatives:  5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nate:  6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14</a:t>
            </a:r>
            <a:r>
              <a:rPr b="0" lang="en-US" sz="4400" spc="-1" strike="noStrike" baseline="30000">
                <a:solidFill>
                  <a:srgbClr val="003366"/>
                </a:solidFill>
                <a:latin typeface="Verdana"/>
              </a:rPr>
              <a:t>th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Congres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lig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54" name="Content Placeholder 3" descr="Screen Shot 2016-01-12 at 1.08.20 PM.png"/>
          <p:cNvPicPr/>
          <p:nvPr/>
        </p:nvPicPr>
        <p:blipFill>
          <a:blip r:embed="rId1"/>
          <a:srcRect l="-1433" t="0" r="-1433" b="0"/>
          <a:stretch/>
        </p:blipFill>
        <p:spPr>
          <a:xfrm>
            <a:off x="912960" y="1905120"/>
            <a:ext cx="8110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ouse of Representativ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35 Memb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mal Qualificat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 least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2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years ol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itizen for at least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7 yea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resident of the st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on characteristics of member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st have been and are white m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ts of Lawy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erience in government (State or local level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atives serve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Verdana"/>
              </a:rPr>
              <a:t>2 year term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435 members must be reelected every 2 yea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250" autoRev="1" fill="hold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ional Leade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both houses, the political party that control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more than half of the seats is known as the majority part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ther is the minority part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ining control of a house of Congress has many advantages…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1"/>
          <p:cNvSpPr/>
          <p:nvPr/>
        </p:nvSpPr>
        <p:spPr>
          <a:xfrm>
            <a:off x="380880" y="22860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arty Makeup of Hous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2" descr="Screen Shot 2016-01-12 at 12.58.33 PM.png"/>
          <p:cNvPicPr/>
          <p:nvPr/>
        </p:nvPicPr>
        <p:blipFill>
          <a:blip r:embed="rId1"/>
          <a:stretch/>
        </p:blipFill>
        <p:spPr>
          <a:xfrm>
            <a:off x="1165320" y="1295280"/>
            <a:ext cx="6362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Screen Shot 2016-01-12 at 12.58.19 PM.png"/>
          <p:cNvPicPr/>
          <p:nvPr/>
        </p:nvPicPr>
        <p:blipFill>
          <a:blip r:embed="rId1"/>
          <a:stretch/>
        </p:blipFill>
        <p:spPr>
          <a:xfrm>
            <a:off x="762120" y="1981080"/>
            <a:ext cx="7111800" cy="29718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3"/>
          <p:cNvSpPr/>
          <p:nvPr/>
        </p:nvSpPr>
        <p:spPr>
          <a:xfrm>
            <a:off x="533520" y="3049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arty Makeup of Senat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ional Leade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ajority party provides the leadership of that Hou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 of Representa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ader is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peaker of the Hou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chosen from the majority par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aker i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third in lin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the Presidenc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aker and majority party has significant power over the legislative proces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Speaker for the 11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ongress is </a:t>
            </a: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Paul Rya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after a vote take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Mark Twai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ppose you were an idiot. And suppose you were a member of Congress.  But I repeat myself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What is expressed in this quot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Why are members of Congress subject to comments by people such as Jimmy Fallon, Jay Leno, Jon Stewart, etc.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ouse of Representatives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Leadership continued…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-2260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ajority Leader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leader of the majority party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 the floor.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Kevin McCarthy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(R-C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ajority Whip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assists the speaker and majority leader in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pping up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upport for legisl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Steve Scalise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 (R-L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ouse of Representatives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Leadership continued…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ority Leader – leader of the minority party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 the floor.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Nancy Pelosi (D-C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ority Whip – assists the minority lead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Steny Hoyer (D-M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ouse of Representativ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905120"/>
            <a:ext cx="871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ery state is guaranteed at leas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1 delegat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the Hou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representatives is determined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pulation is counted every 10 years by the </a:t>
            </a:r>
            <a:r>
              <a:rPr b="1" lang="en-US" sz="2000" spc="-1" strike="noStrike">
                <a:solidFill>
                  <a:srgbClr val="cc3300"/>
                </a:solidFill>
                <a:latin typeface="Verdana"/>
              </a:rPr>
              <a:t>censu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resentatives are elected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distric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in states with more than 1 representative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76520" y="5638680"/>
            <a:ext cx="548640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Georgia"/>
              </a:rPr>
              <a:t>Representation Changes after the 2000 Censu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2" name="Picture Placeholder 2" descr="Screen Shot 2015-04-21 at 10.37.30 AM.png"/>
          <p:cNvPicPr/>
          <p:nvPr/>
        </p:nvPicPr>
        <p:blipFill>
          <a:blip r:embed="rId1"/>
          <a:srcRect l="326" t="0" r="682" b="0"/>
          <a:stretch/>
        </p:blipFill>
        <p:spPr>
          <a:xfrm>
            <a:off x="932040" y="612720"/>
            <a:ext cx="7181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2440" y="4659480"/>
            <a:ext cx="5486400" cy="70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Seats gained/lost after 2010 census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4" name="Picture Placeholder 4" descr="Screen Shot 2015-04-21 at 10.38.06 AM.png"/>
          <p:cNvPicPr/>
          <p:nvPr/>
        </p:nvPicPr>
        <p:blipFill>
          <a:blip r:embed="rId1"/>
          <a:srcRect l="-316" t="0" r="-154" b="0"/>
          <a:stretch/>
        </p:blipFill>
        <p:spPr>
          <a:xfrm>
            <a:off x="831960" y="612720"/>
            <a:ext cx="7394400" cy="411480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llinois Congressional Map from 2003-2012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7" name="Content Placeholder 3" descr="Screen shot 2012-10-11 at 9.19.54 AM.png"/>
          <p:cNvPicPr/>
          <p:nvPr/>
        </p:nvPicPr>
        <p:blipFill>
          <a:blip r:embed="rId1"/>
          <a:srcRect l="-84083" t="0" r="-84083" b="0"/>
          <a:stretch/>
        </p:blipFill>
        <p:spPr>
          <a:xfrm>
            <a:off x="912960" y="1905120"/>
            <a:ext cx="8110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llinois Congressional Map from 2012 - 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9" name="Content Placeholder 3" descr="Screen shot 2012-10-11 at 9.28.52 AM.png"/>
          <p:cNvPicPr/>
          <p:nvPr/>
        </p:nvPicPr>
        <p:blipFill>
          <a:blip r:embed="rId1"/>
          <a:srcRect l="-86107" t="0" r="-86107" b="0"/>
          <a:stretch/>
        </p:blipFill>
        <p:spPr>
          <a:xfrm>
            <a:off x="912960" y="1905120"/>
            <a:ext cx="81104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ouse of Representativ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gressional districts are drawn by </a:t>
            </a: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state legislatur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pportionment occurs when reps are added/tak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tricts are NOT to be drawn in a way that is advantageous for a certain group (political party, et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rrymandering – drawing an odd-shaped district for political advan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ost Gerrymandered Congressional Distri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he Senat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cation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Verdana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years ol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itizen for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Verdana"/>
              </a:rPr>
              <a:t>at least 9 yea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Verdana"/>
              </a:rPr>
              <a:t>Resident of the st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on characteristic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ite, ma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wy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rience in government (state, House of Reps., etc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he Senat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ms of Off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ators ser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erms that last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Verdana"/>
              </a:rPr>
              <a:t>6 year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roximately 1/3 of the Senate is up for reelection every 2 yea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are 2 Senators elected from each state for a total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mportance of Congres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ramers believed Congress would be immensely importa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rst article (and longest) of the Constitution is dedicated to the Legislative body of the government of the U.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llinois Senato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87" name="Content Placeholder 7" descr="Screen shot 2012-10-11 at 10.37.16 AM.png"/>
          <p:cNvPicPr/>
          <p:nvPr/>
        </p:nvPicPr>
        <p:blipFill>
          <a:blip r:embed="rId1"/>
          <a:srcRect l="-10156" t="0" r="-10156" b="0"/>
          <a:stretch/>
        </p:blipFill>
        <p:spPr>
          <a:xfrm>
            <a:off x="912960" y="1905120"/>
            <a:ext cx="3978000" cy="4190760"/>
          </a:xfrm>
          <a:prstGeom prst="rect">
            <a:avLst/>
          </a:prstGeom>
          <a:ln w="0">
            <a:noFill/>
          </a:ln>
        </p:spPr>
      </p:pic>
      <p:pic>
        <p:nvPicPr>
          <p:cNvPr id="288" name="Content Placeholder 2" descr="Screen Shot 2017-01-13 at 9.32.55 AM.png"/>
          <p:cNvPicPr/>
          <p:nvPr/>
        </p:nvPicPr>
        <p:blipFill>
          <a:blip r:embed="rId2"/>
          <a:srcRect l="0" t="1384" r="0" b="1384"/>
          <a:stretch/>
        </p:blipFill>
        <p:spPr>
          <a:xfrm>
            <a:off x="5043600" y="1905120"/>
            <a:ext cx="3979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71200" y="192240"/>
            <a:ext cx="816300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llinois</a:t>
            </a:r>
            <a:r>
              <a:rPr b="0" lang="ja-JP" sz="4400" spc="-1" strike="noStrike">
                <a:solidFill>
                  <a:srgbClr val="003366"/>
                </a:solidFill>
                <a:latin typeface="Verdana"/>
              </a:rPr>
              <a:t>’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 Senato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ichard Durbin - (D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ed to the Senate in 1996; from Springfie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 for election in 201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led Senate seat of mentor, Sen. Paul Sim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6176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mmy Duckworth – (D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ed in 2016 by defeating incumbent Mark Kirk (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raq War veteran (lost both legs and partial use of right arm); Purple Heart recipient; retired as Lieutenant Colonel in 201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er Assistant Secretary of the Department of Veterans Affai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533520" y="2792520"/>
            <a:ext cx="63244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ber of the House for 2 ter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ried with a daugh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ional Leade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nate Leadershi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ficial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Verdana"/>
              </a:rPr>
              <a:t>President of the Senate is the Vice President</a:t>
            </a: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 the United Sta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y votes in case of a ti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rely is present in the Sena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Mike P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enate Leadership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tinued…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912600" y="1905120"/>
            <a:ext cx="8110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y-to-day leader of the Senate is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President Pro Tempor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normally the most senior member of the majority par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es not have as much power as the Speak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ly,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Orrin Hatch </a:t>
            </a:r>
            <a:r>
              <a:rPr b="0" lang="en-US" sz="2000" spc="-1" strike="noStrike">
                <a:solidFill>
                  <a:srgbClr val="c00000"/>
                </a:solidFill>
                <a:latin typeface="Verdana"/>
              </a:rPr>
              <a:t>(R-P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jority Lea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Mitch McConnell (R-K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stant Majority Leader (W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Verdana"/>
              </a:rPr>
              <a:t>John Cornyn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(R-T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ority Lea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Chuck Schumer (D-N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stant Minority Leader (W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Dick Durbin (D-I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enate Leadership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12600" y="1904760"/>
            <a:ext cx="81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titutionally Mandated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2" name="Picture 8" descr="Screen Shot 2017-01-13 at 9.59.38 AM.png"/>
          <p:cNvPicPr/>
          <p:nvPr/>
        </p:nvPicPr>
        <p:blipFill>
          <a:blip r:embed="rId1"/>
          <a:stretch/>
        </p:blipFill>
        <p:spPr>
          <a:xfrm>
            <a:off x="4724280" y="3048120"/>
            <a:ext cx="2130480" cy="13716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Screen Shot 2017-01-13 at 9.55.06 AM.png"/>
          <p:cNvPicPr/>
          <p:nvPr/>
        </p:nvPicPr>
        <p:blipFill>
          <a:blip r:embed="rId2"/>
          <a:stretch/>
        </p:blipFill>
        <p:spPr>
          <a:xfrm>
            <a:off x="1752480" y="3048120"/>
            <a:ext cx="1600200" cy="1449360"/>
          </a:xfrm>
          <a:prstGeom prst="rect">
            <a:avLst/>
          </a:prstGeom>
          <a:ln w="0">
            <a:noFill/>
          </a:ln>
        </p:spPr>
      </p:pic>
      <p:sp>
        <p:nvSpPr>
          <p:cNvPr id="304" name="TextBox 10"/>
          <p:cNvSpPr/>
          <p:nvPr/>
        </p:nvSpPr>
        <p:spPr>
          <a:xfrm>
            <a:off x="1371600" y="47242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i="1" lang="en-US" sz="1200" spc="-1" strike="noStrike">
                <a:solidFill>
                  <a:srgbClr val="ff0000"/>
                </a:solidFill>
                <a:latin typeface="Verdana"/>
              </a:rPr>
              <a:t>Mike P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Content Placeholder 3" descr="Screen Shot 2017-01-13 at 9.31.59 AM.png"/>
          <p:cNvPicPr/>
          <p:nvPr/>
        </p:nvPicPr>
        <p:blipFill>
          <a:blip r:embed="rId1"/>
          <a:srcRect l="0" t="24250" r="0" b="24250"/>
          <a:stretch/>
        </p:blipFill>
        <p:spPr>
          <a:xfrm>
            <a:off x="912960" y="1828800"/>
            <a:ext cx="8110440" cy="426708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publican Leadership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emocratic Leadership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08" name="Content Placeholder 3" descr="Screen Shot 2017-01-13 at 9.51.26 AM.png"/>
          <p:cNvPicPr/>
          <p:nvPr/>
        </p:nvPicPr>
        <p:blipFill>
          <a:blip r:embed="rId1"/>
          <a:srcRect l="0" t="3471" r="0" b="3471"/>
          <a:stretch/>
        </p:blipFill>
        <p:spPr>
          <a:xfrm>
            <a:off x="912960" y="1905120"/>
            <a:ext cx="8110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ional Compens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lar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gress:  $174,0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eaker of House:  $223,5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ice President:  $230,7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sident Pro Tem:  $193,4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loor Leaders:  $193,4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423720"/>
            <a:ext cx="816300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man Aaron Schock</a:t>
            </a:r>
            <a:br>
              <a:rPr sz="4400"/>
            </a:b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(Resigned/Special Election to be held)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27" name="Content Placeholder 6" descr="Screen shot 2012-10-11 at 8.56.30 AM.png"/>
          <p:cNvPicPr/>
          <p:nvPr/>
        </p:nvPicPr>
        <p:blipFill>
          <a:blip r:embed="rId1"/>
          <a:srcRect l="-501" t="0" r="-501" b="0"/>
          <a:stretch/>
        </p:blipFill>
        <p:spPr>
          <a:xfrm>
            <a:off x="912960" y="1905120"/>
            <a:ext cx="3978000" cy="4190760"/>
          </a:xfrm>
          <a:prstGeom prst="rect">
            <a:avLst/>
          </a:prstGeom>
          <a:ln w="0">
            <a:noFill/>
          </a:ln>
        </p:spPr>
      </p:pic>
      <p:pic>
        <p:nvPicPr>
          <p:cNvPr id="228" name="Content Placeholder 7" descr="Screen shot 2012-10-11 at 9.00.19 AM.png"/>
          <p:cNvPicPr/>
          <p:nvPr/>
        </p:nvPicPr>
        <p:blipFill>
          <a:blip r:embed="rId2"/>
          <a:srcRect l="0" t="-11615" r="0" b="-11615"/>
          <a:stretch/>
        </p:blipFill>
        <p:spPr>
          <a:xfrm>
            <a:off x="5043600" y="1905120"/>
            <a:ext cx="3979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n Salar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Special tax ded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Travel expen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Health Insur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Retirement Plan/Pens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$150,00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Franking Privile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Perks: Parking, Printing, etc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04920" y="838080"/>
            <a:ext cx="524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the following questions on a piece of paper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1371600" y="6019920"/>
            <a:ext cx="655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you have completed the Preview, share your responses with a partner or with the clas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304920" y="88920"/>
            <a:ext cx="7467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5E67-74C3-4D38-B206-865374925427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Line 8"/>
          <p:cNvSpPr/>
          <p:nvPr/>
        </p:nvSpPr>
        <p:spPr>
          <a:xfrm>
            <a:off x="0" y="544680"/>
            <a:ext cx="9144000" cy="0"/>
          </a:xfrm>
          <a:prstGeom prst="line">
            <a:avLst/>
          </a:prstGeom>
          <a:ln w="76320">
            <a:solidFill>
              <a:srgbClr val="3737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380880" y="838080"/>
            <a:ext cx="746784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photograph and biography, what facts do you know about Congressman Schock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ings about Aaron Schock do you think are typical for a member of Congress? What things might be atypical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spects of his background do you think would help make Aaron Schock an effective legislator? Expla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Why will you and some of your parent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able to vote for Aaron Schock in this elec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aron Schock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7" name="Content Placeholder 3" descr="Screen shot 2012-10-11 at 9.06.06 AM.png"/>
          <p:cNvPicPr/>
          <p:nvPr/>
        </p:nvPicPr>
        <p:blipFill>
          <a:blip r:embed="rId1"/>
          <a:srcRect l="-59538" t="0" r="-59538" b="0"/>
          <a:stretch/>
        </p:blipFill>
        <p:spPr>
          <a:xfrm>
            <a:off x="912960" y="1905120"/>
            <a:ext cx="8110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19152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man Darin Lahood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9" name="Content Placeholder 2" descr="Screen Shot 2016-01-12 at 12.30.24 PM.png"/>
          <p:cNvPicPr/>
          <p:nvPr/>
        </p:nvPicPr>
        <p:blipFill>
          <a:blip r:embed="rId1"/>
          <a:srcRect l="6367" t="0" r="6367" b="0"/>
          <a:stretch/>
        </p:blipFill>
        <p:spPr>
          <a:xfrm>
            <a:off x="912960" y="1905120"/>
            <a:ext cx="3978000" cy="41907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5043240" y="1904760"/>
            <a:ext cx="3979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idence:  Dunlap, I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rital Status:  Marri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vious Occupation:  Ill. State Senate, Tazew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te’s Attorney’s Office, Lawyer (Miller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ll, and Trigg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vious Political:  Illinois State Sena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ducation:  Academy/Spalding High School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ras College, John Marshall Law Schoo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irthdate:  8/12/1928; Peoria, I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ligion:  Roman Catholi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80640" y="609120"/>
            <a:ext cx="81630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What makes for an effective    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   legislator?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2600" y="1828800"/>
            <a:ext cx="8110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eneral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Verdana"/>
              </a:rPr>
              <a:t>Bi-cameral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eaning </a:t>
            </a:r>
            <a:r>
              <a:rPr b="1" lang="en-US" sz="2800" spc="-1" strike="noStrike">
                <a:solidFill>
                  <a:srgbClr val="9a0000"/>
                </a:solidFill>
                <a:latin typeface="Verdana"/>
              </a:rPr>
              <a:t>two hous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 of Representatives – lower ho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st to the people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e representation based on popul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ate – upper ho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al state representation (2 per stat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d by </a:t>
            </a: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Article I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 the Constit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esult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Great Compromi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Connecticut Comprom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J plan favored equal representation for sta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ginia plan favored larger states with higher popul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18:41:23Z</dcterms:created>
  <dc:creator>Stephanie Fogarty</dc:creator>
  <dc:description/>
  <dc:language>en-US</dc:language>
  <cp:lastModifiedBy>olsonl olson</cp:lastModifiedBy>
  <cp:lastPrinted>2012-10-11T18:42:25Z</cp:lastPrinted>
  <dcterms:modified xsi:type="dcterms:W3CDTF">2018-01-16T13:56:18Z</dcterms:modified>
  <cp:revision>127</cp:revision>
  <dc:subject/>
  <dc:title>The Legislative Branch</dc:title>
</cp:coreProperties>
</file>